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13.jpeg" ContentType="image/jpeg"/>
  <Override PartName="/ppt/media/image2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CAD-FC71-4F06-B13C-2D8EF456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D41-D7C4-4380-8ADE-5598D2FE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3155-AEFD-4DB9-82A9-4B5DE3B8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F7BE-CB59-4667-BB3F-C15480F3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6E7-31B8-48CB-8A87-55AA0B2C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01C-EEE0-4B72-8971-3B0E6894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FB3-A195-45C5-B19F-C173D8E1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117-89A3-4674-88DF-441178AC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6A45-51D2-44D6-86A4-EF06ADEF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FA4-2459-46A7-ABB5-4689DE70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03B7-E92A-4DC8-8A74-EB823D70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E45-6BD8-40B1-A1BE-E4E2CC3A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4875-B853-4084-9EFC-477C1109D3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3582-20DE-4874-BB72-AC54F51D2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hyperlink" Target="http://www.azsos.gov/public_services/kids/" TargetMode="External"/><Relationship Id="rId11" Type="http://schemas.openxmlformats.org/officeDocument/2006/relationships/hyperlink" Target="http://www.azlibrary.gov/links/kidsaz.aspx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kidskonnect.com/subject-index/33-states/167-arizona.html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0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idskonnect.com/subject-index/33-states/167-arizona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8931240" cy="5954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744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Happy Birthday Ariz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4572000" y="228600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izona’s State Tr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6"/>
          <p:cNvSpPr/>
          <p:nvPr/>
        </p:nvSpPr>
        <p:spPr>
          <a:xfrm rot="19111200">
            <a:off x="955440" y="4819680"/>
            <a:ext cx="40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clude the name of the tree on you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ts2.mm.bing.net/images/thumbnail.aspx?q=1608750279301&amp;id=76f24ff0913021d2caa007d74bf763c9&amp;url=http%3a%2f%2fwww.lib.az.us%2fmuseum%2fimages%2fss_gemstone.jpg"/>
          <p:cNvPicPr/>
          <p:nvPr/>
        </p:nvPicPr>
        <p:blipFill>
          <a:blip r:embed="rId1"/>
          <a:stretch/>
        </p:blipFill>
        <p:spPr>
          <a:xfrm>
            <a:off x="38160" y="19432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ts3.mm.bing.net/images/thumbnail.aspx?q=1582702932690&amp;id=aa4582fdcec6eab43718a0522a9d9d7d&amp;url=http%3a%2f%2fstatic.flickr.com%2f2272%2f2235408773_d6d5c7419d_z.jpg"/>
          <p:cNvPicPr/>
          <p:nvPr/>
        </p:nvPicPr>
        <p:blipFill>
          <a:blip r:embed="rId2"/>
          <a:stretch/>
        </p:blipFill>
        <p:spPr>
          <a:xfrm>
            <a:off x="5943600" y="228600"/>
            <a:ext cx="2857680" cy="1809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ts2.mm.bing.net/images/thumbnail.aspx?q=1625431411481&amp;id=3be058ec39d14caec0a77014e26e51c6&amp;url=http%3a%2f%2fdorisantiques.com%2fitems%2fM5060s.jpg"/>
          <p:cNvPicPr/>
          <p:nvPr/>
        </p:nvPicPr>
        <p:blipFill>
          <a:blip r:embed="rId3"/>
          <a:stretch/>
        </p:blipFill>
        <p:spPr>
          <a:xfrm>
            <a:off x="6324480" y="2133720"/>
            <a:ext cx="2248200" cy="168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ts2.mm.bing.net/images/thumbnail.aspx?q=1622089270677&amp;id=236592576b8428ec2a2cabcbb71a5597&amp;url=http%3a%2f%2fwww.airphotona.com%2fstockimg%2fimages%2f06504.jpg"/>
          <p:cNvPicPr/>
          <p:nvPr/>
        </p:nvPicPr>
        <p:blipFill>
          <a:blip r:embed="rId4"/>
          <a:stretch/>
        </p:blipFill>
        <p:spPr>
          <a:xfrm>
            <a:off x="4686480" y="3886200"/>
            <a:ext cx="4457520" cy="2913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2743200" y="380880"/>
            <a:ext cx="297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rizona is best known for the mining of _________ and __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8" descr="http://ts2.mm.bing.net/images/thumbnail.aspx?q=1626276233645&amp;id=d51fbad34a3c417813ef0b3a5f32e65b&amp;url=http%3a%2f%2fcrystal-cure.com%2fpics%2fturquoise-bead.jpg"/>
          <p:cNvPicPr/>
          <p:nvPr/>
        </p:nvPicPr>
        <p:blipFill>
          <a:blip r:embed="rId5"/>
          <a:stretch/>
        </p:blipFill>
        <p:spPr>
          <a:xfrm>
            <a:off x="0" y="4971960"/>
            <a:ext cx="1886040" cy="1886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://ts2.mm.bing.net/images/thumbnail.aspx?q=1628457801997&amp;id=1832fa1ecf6b73c7314f973abba64d95&amp;url=http%3a%2f%2fwww.statesymbolsusa.org%2fIMAGES%2fNew_Mexico%2fTurqoise-002.jpg"/>
          <p:cNvPicPr/>
          <p:nvPr/>
        </p:nvPicPr>
        <p:blipFill>
          <a:blip r:embed="rId6"/>
          <a:stretch/>
        </p:blipFill>
        <p:spPr>
          <a:xfrm>
            <a:off x="990720" y="38088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8"/>
          <p:cNvSpPr/>
          <p:nvPr/>
        </p:nvSpPr>
        <p:spPr>
          <a:xfrm>
            <a:off x="3048120" y="31240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hat two minerals to you see in this pictu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551520" y="457200"/>
            <a:ext cx="755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f the major cities of Arizona include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389240" y="3124080"/>
            <a:ext cx="53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this site to find out the names of at least four cit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6320" y="1197000"/>
            <a:ext cx="78483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pit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te abbreviation/Postal cod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verno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ator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________ &amp; 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19840" y="1209600"/>
            <a:ext cx="2095560" cy="2600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838760" y="4238640"/>
            <a:ext cx="2095560" cy="261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7048440" y="4200480"/>
            <a:ext cx="2095560" cy="265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://www.mapresources.com/media/catalog/product/cache/1/image/9df78eab33525d08d6e5fb8d27136e95/A/Z/AZ-USA-113042_comp.jpg"/>
          <p:cNvPicPr/>
          <p:nvPr/>
        </p:nvPicPr>
        <p:blipFill>
          <a:blip r:embed="rId4"/>
          <a:stretch/>
        </p:blipFill>
        <p:spPr>
          <a:xfrm>
            <a:off x="2666880" y="44280"/>
            <a:ext cx="182880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546480" y="609480"/>
            <a:ext cx="79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ame “Arizona” Comes from a Papago Indian word meaning 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 rot="20459400">
            <a:off x="1815840" y="2743200"/>
            <a:ext cx="65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se this link to find the answer and then find a picture to fill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rcRect l="0" t="0" r="0" b="6118"/>
          <a:stretch/>
        </p:blipFill>
        <p:spPr>
          <a:xfrm>
            <a:off x="1523880" y="220680"/>
            <a:ext cx="6039000" cy="35416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685800" y="3762360"/>
            <a:ext cx="77724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l of the symbols on this flag have a mean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ive pointed copper sta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pper indus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ays of the su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bolize Arizona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western st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r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3 red and gold ray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present the original 13 colon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red and gold colors repres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panish influence of Coronad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state colors of red and blue are also included in the flag which was adopted in 191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920160" y="99072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of my favorite images of Arizo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609480" y="274320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rizona is special to m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659640" y="291960"/>
            <a:ext cx="1874880" cy="298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315200" y="4572000"/>
            <a:ext cx="1654200" cy="1447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7848720" y="2590920"/>
            <a:ext cx="107784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7848720" y="5553000"/>
            <a:ext cx="1073160" cy="97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5"/>
          <a:stretch/>
        </p:blipFill>
        <p:spPr>
          <a:xfrm>
            <a:off x="457200" y="5199120"/>
            <a:ext cx="1752480" cy="1312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6"/>
          <a:stretch/>
        </p:blipFill>
        <p:spPr>
          <a:xfrm>
            <a:off x="2057400" y="4903920"/>
            <a:ext cx="914400" cy="1954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434520" y="6488280"/>
            <a:ext cx="13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Father Kin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7"/>
          <a:stretch/>
        </p:blipFill>
        <p:spPr>
          <a:xfrm>
            <a:off x="3019320" y="4724280"/>
            <a:ext cx="310536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8"/>
          <a:stretch/>
        </p:blipFill>
        <p:spPr>
          <a:xfrm>
            <a:off x="533520" y="2019240"/>
            <a:ext cx="238896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9"/>
          <a:stretch/>
        </p:blipFill>
        <p:spPr>
          <a:xfrm>
            <a:off x="3886200" y="2058840"/>
            <a:ext cx="2727360" cy="2740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2"/>
          <p:cNvSpPr/>
          <p:nvPr/>
        </p:nvSpPr>
        <p:spPr>
          <a:xfrm>
            <a:off x="304920" y="152280"/>
            <a:ext cx="601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 a presentation about Arizona by completing the information in the slides and using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this sit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, or, if it has trouble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the links from this pag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--You may need to find images for pages that have none.  Once you complete the information, resize and move images to make it look bet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755720" y="174600"/>
            <a:ext cx="5562720" cy="6562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7467480" y="304920"/>
            <a:ext cx="1371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are the _____ counties of Ariz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ow many counties are in Arizo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04920" y="304920"/>
            <a:ext cx="1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cson is in ______ coun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What county is Tucson 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2133720"/>
            <a:ext cx="160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cson became a city in ______, or ______ years 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ly there are about 1,003,235 people living in Tuc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14640" y="1784520"/>
            <a:ext cx="5048280" cy="5073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1066680" y="26352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The state seal is representative of the foundational elements of the Arizona economy: cattle, cotton, copper, citrus, and climate, which are all visible on the se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7162920" y="1820880"/>
            <a:ext cx="1981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tt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he irrigated fields slightly right of the mid-lin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pp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he miner on the lef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lim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as expressed and exported in the flora and fauna, is represented by the sun and rainclou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-57240" y="1812960"/>
            <a:ext cx="2266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Five Cs, as they are commonly known, appear as follow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att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represented by the cow at approximately 5 o'cloc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itr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he irrigated orchard slightly left of the midd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ts3.mm.bing.net/images/thumbnail.aspx?q=1596360045254&amp;id=26f610eaa3d0d14e69eb56064e664152&amp;url=http%3a%2f%2fwwwdelivery.superstock.com%2fWI%2f223%2f1890%2fPreviewComp%2fSuperStock_1890-6655.jpg"/>
          <p:cNvPicPr/>
          <p:nvPr/>
        </p:nvPicPr>
        <p:blipFill>
          <a:blip r:embed="rId1"/>
          <a:stretch/>
        </p:blipFill>
        <p:spPr>
          <a:xfrm>
            <a:off x="380880" y="1600200"/>
            <a:ext cx="1625760" cy="163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ts1.mm.bing.net/images/thumbnail.aspx?q=1618122453560&amp;id=ad387f03cfb15e7a5c42602fdaf27b88&amp;url=http%3a%2f%2fwww.vacationideas.me%2fwp-content%2fuploads%2f2008%2f10%2fprice-canyon-ranch-arizona-cattle.jpg"/>
          <p:cNvPicPr/>
          <p:nvPr/>
        </p:nvPicPr>
        <p:blipFill>
          <a:blip r:embed="rId2"/>
          <a:stretch/>
        </p:blipFill>
        <p:spPr>
          <a:xfrm>
            <a:off x="228600" y="3657600"/>
            <a:ext cx="1905120" cy="1263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80880" y="792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Five C’s of Arizona’s Early Indust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re: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ill in the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________, ________, _________, ______,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ts3.mm.bing.net/images/thumbnail.aspx?q=1622870799110&amp;id=78c354ea339738588d27297fdd5d9dcc&amp;url=http%3a%2f%2fsouthcarolina1670.files.wordpress.com%2f2010%2f08%2farizona-cotton-crop.jpg"/>
          <p:cNvPicPr/>
          <p:nvPr/>
        </p:nvPicPr>
        <p:blipFill>
          <a:blip r:embed="rId4"/>
          <a:stretch/>
        </p:blipFill>
        <p:spPr>
          <a:xfrm>
            <a:off x="6781680" y="1752480"/>
            <a:ext cx="20574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ts4.mm.bing.net/images/thumbnail.aspx?q=1581589273799&amp;id=d3651aaeacdc2845d7ecbef0fc085a7e&amp;url=http%3a%2f%2fwww.statesymbolsusa.org%2fIMAGES%2fTexas%2fCotton-plant.jpg"/>
          <p:cNvPicPr/>
          <p:nvPr/>
        </p:nvPicPr>
        <p:blipFill>
          <a:blip r:embed="rId5"/>
          <a:stretch/>
        </p:blipFill>
        <p:spPr>
          <a:xfrm>
            <a:off x="5257800" y="18288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ts2.mm.bing.net/images/thumbnail.aspx?q=1617453986857&amp;id=32d1929d0425f34ab95a748361492272&amp;url=http%3a%2f%2fimg.hgtv.com%2fHGTV%2f2005%2f01%2f20%2freb619_CitrusTree_lg.jpg"/>
          <p:cNvPicPr/>
          <p:nvPr/>
        </p:nvPicPr>
        <p:blipFill>
          <a:blip r:embed="rId6"/>
          <a:stretch/>
        </p:blipFill>
        <p:spPr>
          <a:xfrm>
            <a:off x="2590920" y="20574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ts3.mm.bing.net/images/thumbnail.aspx?q=1618121266746&amp;id=6b2a6cd500b6ac79024c49095ad21efc&amp;url=http%3a%2f%2fwww.mesa-goodlife.com%2fimages%2fOrangeTree.jpg"/>
          <p:cNvPicPr/>
          <p:nvPr/>
        </p:nvPicPr>
        <p:blipFill>
          <a:blip r:embed="rId7"/>
          <a:stretch/>
        </p:blipFill>
        <p:spPr>
          <a:xfrm>
            <a:off x="2438280" y="3200400"/>
            <a:ext cx="152568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8"/>
          <a:stretch/>
        </p:blipFill>
        <p:spPr>
          <a:xfrm>
            <a:off x="5867280" y="3765600"/>
            <a:ext cx="3076560" cy="3092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9"/>
          <a:stretch/>
        </p:blipFill>
        <p:spPr>
          <a:xfrm>
            <a:off x="228600" y="4919760"/>
            <a:ext cx="2044800" cy="1938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10"/>
          <a:stretch/>
        </p:blipFill>
        <p:spPr>
          <a:xfrm>
            <a:off x="2286000" y="5342040"/>
            <a:ext cx="2286000" cy="151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11"/>
          <a:stretch/>
        </p:blipFill>
        <p:spPr>
          <a:xfrm>
            <a:off x="3809880" y="4267080"/>
            <a:ext cx="190188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6934320" y="6458040"/>
            <a:ext cx="38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Grand Cany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914400" y="-98280"/>
            <a:ext cx="683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most famous natural site in Arizona is                   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 rot="20517000">
            <a:off x="2660760" y="188280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 at least one picture to fill this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457200" y="5105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at is why Arizona is known as the __________ ____________ sta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6185520" y="243828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gollon R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68000" y="220968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guaro National P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http://ts4.mm.bing.net/images/thumbnail.aspx?q=1596448836003&amp;id=4c40a3ec338fe16ebf6363efa5357cdc&amp;url=http%3a%2f%2fwww.lib.az.us%2fmuseum%2fimages%2fss_fossil.jpg"/>
          <p:cNvPicPr/>
          <p:nvPr/>
        </p:nvPicPr>
        <p:blipFill>
          <a:blip r:embed="rId1"/>
          <a:stretch/>
        </p:blipFill>
        <p:spPr>
          <a:xfrm>
            <a:off x="152280" y="49528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5190840" y="609588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over D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2819520" y="3429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yon de Che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places of Natural Beauty where many tourists enjoy going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1770120" y="914400"/>
            <a:ext cx="560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ind pictures of each of these places and arrange the page so it looks nice. Change the font style, size and color as you like.  Then delete this writ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4419720" y="6094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izona’s State Bi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5"/>
          <p:cNvSpPr/>
          <p:nvPr/>
        </p:nvSpPr>
        <p:spPr>
          <a:xfrm rot="19111200">
            <a:off x="1964880" y="324432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clude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he name of the bir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on you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1981080" y="22860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izona’s State Flow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 rot="19111200">
            <a:off x="1878840" y="324468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clude the name of the flower on you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2:07:32Z</dcterms:created>
  <dc:creator>JanaLee</dc:creator>
  <dc:description/>
  <dc:language>en-US</dc:language>
  <cp:lastModifiedBy>Emily Mann</cp:lastModifiedBy>
  <dcterms:modified xsi:type="dcterms:W3CDTF">2012-02-14T13:04:23Z</dcterms:modified>
  <cp:revision>46</cp:revision>
  <dc:subject/>
  <dc:title>Happy Birthday Arizona</dc:title>
</cp:coreProperties>
</file>